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B738-3CB1-4531-B3E5-28D5778C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8FF9-73A3-415C-809D-624B6D7A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7CAB-0741-482E-B377-06330842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B633-BEB3-4B83-9495-080003AB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7898-CEED-4327-A5F7-E71CEEAD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BEBA-CFF3-44BE-B81F-44EF13EF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FA1E-098B-44C6-8BB6-5D5D4AA8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874D-092D-43F4-B277-F9CEFCF3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07AC-DBB4-4D6E-9141-DAE43DF8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307D-E49D-4531-9AD8-87D7D84C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8FE-41B9-4777-B839-B33BC77A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3567-969B-4C89-B1F1-0D16629C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6071-BF30-4587-9861-1A4AA8DBA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L1y8QceVBOw" TargetMode="External"/><Relationship Id="rId3" Type="http://schemas.openxmlformats.org/officeDocument/2006/relationships/hyperlink" Target="http://www.youtube.com/watch?v=L1y8QceVBOw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eacher.scholastic.com/activities/bhistory/underground_railroad/escape.htm" TargetMode="External"/><Relationship Id="rId3" Type="http://schemas.openxmlformats.org/officeDocument/2006/relationships/hyperlink" Target="http://www.nationalgeographic.com/railroad/j1.html" TargetMode="External"/><Relationship Id="rId4" Type="http://schemas.openxmlformats.org/officeDocument/2006/relationships/hyperlink" Target="http://www.nationalgeographic.com/railroad/j1.html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ad us to Freed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9436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ollow the Drinking Gourd - 2008 PMEA District 9 Chorus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YouTu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do I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514600"/>
            <a:ext cx="853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can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escribe the life of Harriet Tubman and her contributions to the underground railroa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562720" y="1447920"/>
            <a:ext cx="26668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irtual journey Scholastic_x000b_</a:t>
            </a:r>
            <a:br>
              <a:rPr sz="4000"/>
            </a:br>
            <a:br>
              <a:rPr sz="4000"/>
            </a:b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irtual journey National Geographic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i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1752480"/>
            <a:ext cx="6705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t quilt on Harriet Tub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At least three facts from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2514600"/>
            <a:ext cx="853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can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escribe the life of Harriet Tubman and her contributions to the underground railroa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5:32:42Z</dcterms:created>
  <dc:creator>Larry</dc:creator>
  <dc:description/>
  <dc:language>en-US</dc:language>
  <cp:lastModifiedBy>Larry</cp:lastModifiedBy>
  <dcterms:modified xsi:type="dcterms:W3CDTF">2012-01-29T22:03:55Z</dcterms:modified>
  <cp:revision>2</cp:revision>
  <dc:subject/>
  <dc:title>Lead us to Freedom</dc:title>
</cp:coreProperties>
</file>